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23760" y="-14400"/>
            <a:ext cx="10182240" cy="76392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>
            <a:hlinkClick r:id="" action="ppaction://hlinkshowjump?jump=nextslide"/>
          </p:cNvPr>
          <p:cNvSpPr/>
          <p:nvPr/>
        </p:nvSpPr>
        <p:spPr>
          <a:xfrm>
            <a:off x="122400" y="1440"/>
            <a:ext cx="86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ee Enterprise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14">
            <a:hlinkClick r:id="" action="ppaction://hlinkshowjump?jump=nextslide"/>
          </p:cNvPr>
          <p:cNvSpPr/>
          <p:nvPr/>
        </p:nvSpPr>
        <p:spPr>
          <a:xfrm>
            <a:off x="855720" y="1951200"/>
            <a:ext cx="7912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Laissez-faire (“let people do as they choose”) is based on private enterprise, not government regulation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High tariffs were inconsistent with the   laissez-faire concept of the free market and hurt U.S. exports.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y the early 1900s, the United States was one of the largest free-trade areas in the world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dc:language>en-US</dc:language>
  <cp:lastModifiedBy>Sacerdote, Kevin R.</cp:lastModifiedBy>
  <dcterms:modified xsi:type="dcterms:W3CDTF">2015-09-19T13:02:01Z</dcterms:modified>
  <cp:revision>1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